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D36-069C-4CB5-BCB0-E1A3BD9F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4CF-AF0C-4E83-9476-A38FDCE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B0F91-55C5-4643-8939-9BBA767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E6301-F264-42A1-8C22-C65B3E64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E0843-A6B9-4357-8619-891DC51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A357A-EC19-47C6-840F-4EE830B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CE27C-EDF1-4B05-A4D7-F7EBEF2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712E1-29E7-4455-A22A-503F820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C3DA7-5C8C-4AFB-B38B-2FB0317C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B52D3-FE66-4A4D-9B93-D5930145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A8298-5B8C-4C0C-9C9A-1C6AD80D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FE2C2-E9EC-4D39-960C-B0494F41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F3E-7744-4254-A772-6DC61C90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1617C-F07D-4E90-BA18-0E7DC8B0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FA7A7-80C9-4526-A1C5-7EA956DD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E784-8251-4750-8EAA-9F10327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05830-C813-46CD-BE0D-96D599A9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A06ED-1799-4D09-9ECF-7E3A1C0D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7AA48-5214-458B-9F95-0F2CFD8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C7EB-BFEA-4F6A-8ECE-A401334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ECA2F-AD55-4A26-B9DE-B3863B1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DB20D-7B82-4EF1-AFFA-F70B494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EB6DF-D05F-4B41-A64A-123145D6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020-2214-46EB-BEFC-7F289032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9F025-733C-44C8-8D75-37374C98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05C84-2F1D-44F1-9CF4-980870C8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BF466-5D76-4CBE-BBA9-98E4F6A3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2A2D-A887-4568-A3CA-D7F303D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F53E4-2138-4A52-AEEE-3385FA9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7BD32-7B3C-4024-BB77-BC42045D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5E357-5FA7-4363-938A-3415BD22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F7184-293A-4939-BF08-5FFFB782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783AA-E3BD-4E0B-9D39-BF00DF3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3E81D-76BB-4920-93FD-20899D04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4248-ED67-472F-9B59-A5CB9F65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3A9F8-5E43-4555-A07D-7E14082C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9EF9D-AC0B-4361-B84D-4C6B3743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8FDEF-60F6-4065-A3D8-B0DFE483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B46D5-2F0F-4FD4-8805-011CFCBF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52DF9-BA19-4FF6-9A97-E1015F2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02C83-4B3D-47CA-A78D-344A3FD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02A1-E026-40E2-AB89-58E72F0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C3E63-4827-4469-80D4-5C31979F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046D6-10ED-4D20-B772-260CBE4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9608A-A541-48D6-A5D4-79B0A0B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D44E-AA4D-4C04-9653-DD8CC6A5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D6E15-9819-4BE4-B89A-B1F7429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21348-4A24-44D5-9288-EA2AA5C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0D46C-9574-42B7-B456-F91DC40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43049-A2A4-4AAA-AEA8-25675A75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70E95-FC95-4DED-9FFD-4A11C2A5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69CC-0E4D-472E-B573-B4447C4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D47-3798-481A-9FCA-74F45D36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B877-34EB-4C7F-BAAD-0CD9B330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276-171A-417C-A568-D4C5F225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C003-154D-4C54-8610-2982832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743-6A39-4282-9973-30DE7359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D7B-9B0D-4480-B5B0-C3F0F4F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24B-0E22-43E1-80C0-D274ED13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828-0E18-496B-845F-74E82BC2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B431-0E1F-41FD-BB5C-CDD44DD9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D44F-ED9D-4C90-8F51-D3F29D8A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576A-C423-478D-8100-FCA035F0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9966-121A-4CDE-836B-4CB3168F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3375-3F8B-40B4-BD44-F7C476E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A050-18EB-4D76-8372-E3539325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1CEE-EA24-4F1F-8E43-8AD090C1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78F-A733-46CF-8764-9A1A3FF6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E2937-4A4D-47A2-B50C-6920AAB5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0314-EC88-4C5E-8C55-6842E09F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892D-4C2C-416F-8D92-CBB64A8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027F-AD6E-4E5F-B675-8D1A110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C429-2822-4C27-A332-82FBAA60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CA08-50CC-4263-ACCB-C37D999B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9790-FB24-45C0-B404-7D484577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31EB-312D-4861-AB20-78FDB18C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FBAC-F57A-4A25-8D7E-9A3BF6E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4167-A19A-488E-B9B0-90039F1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ECE-F655-4A36-A960-F965B535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D978-5443-4ADB-B356-8C24528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2FA0-C919-4121-BE75-A3ECB9B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C1A9-D57A-4804-8617-44FAC351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001E-3827-4C46-A413-2D0FC70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D078-676A-44DE-BD65-ED990D60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77B8-09D7-4F3C-8B5F-5EA83AC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C3E0-222D-4D87-974F-5C999EBA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55C6-2FD8-4D80-A9E3-84298AD9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58DE-5E80-4F3B-AB26-8CFDB69E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EE3E4-3B26-4F0A-AEAF-D01F7CF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332-ABF1-48DE-9B4A-A0DE4409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6C6E5-02E3-4759-8CAC-4974FB4C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99C3C-12FE-46B3-AE00-A04A181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5FB8C-F577-448D-933D-5C020D32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75544-64E1-431E-BAC8-54922D1D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93259-B8B6-4BED-8B1F-C717C285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70AAF-0623-43BC-9451-97C5765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479BA-0CF7-4CE8-A301-B41F01E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C894C-7C30-4FE5-A51F-E235944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DEB3C-E29D-469B-BCBE-58B4804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B1D58-ADB5-4478-9027-8F051C08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C4E-391C-48CC-BD3E-0CFA33DA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C0310-48F9-4439-AE7C-CBF76D89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7118-887E-4193-8398-CB5736F4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02BA2-17FF-45F9-AF43-BB8CE47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FCF9-CB0F-4E88-A066-B38FFD6A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039FC-C57B-48C4-BE85-CE216A07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DAFD-8465-414D-A84D-1B54F2CB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528A-7D4F-4FA5-BDC3-02643DF9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511CC-D93F-4899-BBD8-6D7B5D9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08B1-6D06-4738-B002-E989357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E3C31-9A53-41F1-9F9E-2A797A8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043-9F09-4209-A344-E53B8D6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AA5C-3610-4D01-B96A-CC344B1F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7C60-CA14-4786-A1B9-551390B6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F9E1-4910-44AD-9455-5ECFD592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9CF0-D0BB-410B-8A20-60389B51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7EBE-DDC6-4F8E-982C-0BD50208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79BC-A9FD-40DD-BF0D-897F695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643F-59B7-4C0C-BD1A-E16A69C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DE89-A32F-4D9E-9BD2-832CE9BF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EC73-BA7E-4336-BDC5-B18A2AB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CFE61-D782-4F98-BFE3-A6F2BD6B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9B3-728C-43A4-99B2-1B31A34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62849-3EC9-48C3-A5FC-ECBE521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4938-022F-44B8-A237-213C5C8B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4B95-C39A-46E8-BFDB-14DB1147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87A9D-84DB-45E9-8676-C03141A8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F6EA6-F0FF-4D71-8CF1-03C2CF5D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C97A2-2B42-47C0-8A39-803DEBE8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F109-7B4D-4145-B52E-15DC5C48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9978-B17B-441F-A2A3-8DFA6FF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0FA5-850F-4717-B7A4-6F0E886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A144-2CDC-472D-8705-C62800B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877-C552-48A4-AD4D-A12CF6F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67558-287A-4629-BCB6-4BBEAE33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1595B-0FB5-4DBE-AAC0-9EC9F99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BC80C-C765-4C74-9440-20F3DF2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02F39-6609-43D3-8890-58A062D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701B-BF1F-43EE-A251-D6CBD663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BD4B-1855-430F-8807-A82B9B5A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F3294-1A2F-44A5-AACA-BAF95B92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AAF1C-4F8C-48B8-B138-72EF602B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46033-9F8D-4C7B-91B1-CBF10EBB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9677B-C971-4C87-BCBC-AF7B571A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4D6-4A84-43D7-ACE4-D5AC10140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9A1-798B-4B43-AE11-7EF52717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01A-6D60-4FDA-A1F5-22D316D931C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8220-38BB-4CDE-B214-3BBCD4AFA95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980A-7201-411F-B262-BB7E65BF3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1E4F-63FC-4DA6-94C7-C1A47B378B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A0E9-8983-4D83-B5A5-38199BB94F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41C-295D-4434-B3CE-A9B8F8CE1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AE4F-501F-41B4-9F0F-C85D255985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B3D8-88A7-4E06-A4C9-E920F22AF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2108-0BE5-4B17-87FB-B59C82F21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162-7981-43D6-A558-873B20E48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acrifi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5ffff"/>
                </a:solidFill>
                <a:latin typeface="Tahoma"/>
              </a:rPr>
              <a:t>What were people called when they followed Satan?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zomb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death 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wiz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 (yes even bo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tchcraft was one of the greates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gi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pres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 build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t was against the law to not go to chur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al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rrect answer i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st people were accused of witchcraft becaus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had their shirts un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never had d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were under the age of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happened to the people who were accused of witchcraft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sent out of 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got 1,0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had to work 4 days for some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punishment given for being a witch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they were sent to 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they were put on a sh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. none of the abov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1:28:46Z</dcterms:created>
  <dc:creator>kat11088</dc:creator>
  <dc:description/>
  <dc:language>en-US</dc:language>
  <cp:lastModifiedBy>Mr A</cp:lastModifiedBy>
  <dcterms:modified xsi:type="dcterms:W3CDTF">2008-10-15T13:52:31Z</dcterms:modified>
  <cp:revision>3</cp:revision>
  <dc:subject/>
  <dc:title>The Sacrifice </dc:title>
</cp:coreProperties>
</file>